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D81-A4AD-4F5B-B06B-39073EBD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D41-3468-4CE1-B0CD-91D33AEA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5C0-DDDC-4949-ACF0-6E811F24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CA5-CE08-4A5E-9824-3C469483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34C-850B-4806-83DF-9E73F917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403-6DFC-4645-8695-F4139527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B79-4FF2-49ED-BD67-B2C2E95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E26-A1D8-4FBB-B5D7-98AA825C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5E4-0835-4932-887B-C56DB64D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413-826D-484B-AC55-2DBEE5B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FC9-0FFC-42F3-89EC-9964FA3E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A2B-6CF0-4765-AEE9-189078B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160F-EFDC-47B1-A89F-ECBD6EBD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nish-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History – Chapter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chart listing at least three things for each of the categorie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Leading Up to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About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of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– 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US go to war against Spain in 189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right for the US to extend its power into colonial la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n opportunity for the US to advance as a world lea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Ti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NO, ONE, etc.) partner answer the following questions for the slides, pictures and so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HEET PER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IS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is it appropriate for the United States to send soldiers to fight on foreign so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Three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ist an 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tect territory close to US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op human rights a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quire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rove nation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pread or protect American values and moral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against dictato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no circumstances 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(expl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– Section 2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the Yellow K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he contribute to the “newspaper war” between Hearst and Pulitz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id the competition for readers between newspapers play in the US decision to go to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ditor’s to Blame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en to the S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being bla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e being blam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an editor want to start a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editor do to start a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American readers react to the s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99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ditor’s to Blame (Part 2)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Look at Image 20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Listen to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ems to have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headline, what is the cause of the explo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Americans felt when they saw this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the songwriter felt about how editors reacted to this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proof, why might newspapers have published an explanation of the explo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438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817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0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 read the section and 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de Lome l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de Lome letter and USS Maine incident enourage the government to go to war with S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Image 20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ntries appear to be fighting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think this battle is being fou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think these countries are figh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ppears to be winning this batt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Image 2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ight Uncle Sam need the larger suit he is being fitte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what they are carrying, what do you think the men entering the room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cKinley’s response to these anti-imperial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cartoonist seem to agree with US expansion?  How can you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8:11:04Z</dcterms:created>
  <dc:creator> </dc:creator>
  <dc:description/>
  <dc:language>en-US</dc:language>
  <cp:lastModifiedBy>School District U46</cp:lastModifiedBy>
  <dcterms:modified xsi:type="dcterms:W3CDTF">2008-10-27T12:13:31Z</dcterms:modified>
  <cp:revision>9</cp:revision>
  <dc:subject/>
  <dc:title>The Spanish-American War</dc:title>
</cp:coreProperties>
</file>